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BEA-11B9-48A3-9A10-B2842DAA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518-C63D-493D-8533-B2CA0195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988-A463-4904-A7EC-A1FB314A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ED7-D4E7-4C0F-B75B-9A0D81E8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7DD-E236-4FA5-93CF-80620DD7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5EF-1A7B-43F8-B064-2B6DFF91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304-1638-4F29-AAAB-76AFED2C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0D5B-5ECD-4438-81D2-F81DDB79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616-2EF6-47D7-878C-2591D364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6E2-980A-470C-BE1B-755483F9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939-5A7E-4AA6-9DCC-54BC96BA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20C-31D5-4BA3-8E43-EFB54C60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FA22-5819-48CE-8E8D-E75BD4A5A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D15A Introducción a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.- Seleccionar Mejor Altern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istado d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ignar valores a los distintos criterios (matriz de Inter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nalizar y comparar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532720" y="3716280"/>
            <a:ext cx="360360" cy="433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3440"/>
              <a:gd name="textAreaBottom" fmla="*/ 410400 h 433440"/>
            </a:gdLst>
            <a:ahLst/>
            <a:rect l="textAreaLeft" t="textAreaTop" r="textAreaRight" b="textAreaBottom"/>
            <a:pathLst>
              <a:path w="21600" h="25976">
                <a:moveTo>
                  <a:pt x="0" y="0"/>
                </a:moveTo>
                <a:lnTo>
                  <a:pt x="21600" y="0"/>
                </a:lnTo>
                <a:lnTo>
                  <a:pt x="21600" y="25976"/>
                </a:lnTo>
                <a:lnTo>
                  <a:pt x="0" y="25976"/>
                </a:lnTo>
                <a:close/>
              </a:path>
              <a:path fill="lightenLess" w="21600" h="25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6">
                <a:moveTo>
                  <a:pt x="21600" y="0"/>
                </a:moveTo>
                <a:lnTo>
                  <a:pt x="21600" y="25976"/>
                </a:lnTo>
                <a:lnTo>
                  <a:pt x="20200" y="24576"/>
                </a:lnTo>
                <a:lnTo>
                  <a:pt x="20200" y="1400"/>
                </a:lnTo>
                <a:close/>
              </a:path>
              <a:path fill="darkenLess" w="21600" h="25976">
                <a:moveTo>
                  <a:pt x="21600" y="25976"/>
                </a:moveTo>
                <a:lnTo>
                  <a:pt x="0" y="25976"/>
                </a:lnTo>
                <a:lnTo>
                  <a:pt x="1400" y="24576"/>
                </a:lnTo>
                <a:lnTo>
                  <a:pt x="20200" y="24576"/>
                </a:lnTo>
                <a:close/>
              </a:path>
              <a:path fill="lighten" w="21600" h="25976">
                <a:moveTo>
                  <a:pt x="0" y="25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6"/>
                </a:lnTo>
                <a:close/>
              </a:path>
              <a:path fill="darkenLess" w="21600" h="25976">
                <a:moveTo>
                  <a:pt x="5273" y="6173"/>
                </a:moveTo>
                <a:lnTo>
                  <a:pt x="12271" y="6173"/>
                </a:lnTo>
                <a:lnTo>
                  <a:pt x="16327" y="9672"/>
                </a:lnTo>
                <a:lnTo>
                  <a:pt x="16327" y="19803"/>
                </a:lnTo>
                <a:lnTo>
                  <a:pt x="5273" y="19803"/>
                </a:lnTo>
                <a:close/>
              </a:path>
              <a:path fill="darken" w="21600" h="25976">
                <a:moveTo>
                  <a:pt x="12271" y="6173"/>
                </a:moveTo>
                <a:lnTo>
                  <a:pt x="16327" y="9672"/>
                </a:lnTo>
                <a:lnTo>
                  <a:pt x="12271" y="96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.- Comunic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 forma escrita (manuales, repor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 forma oral (present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.- Implement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odelos (Físicos, Conceptuales, CAD , Diagramas de cuerpo libre, Matemático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j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abricación Prot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1628640"/>
            <a:ext cx="3673440" cy="1079640"/>
          </a:xfrm>
          <a:prstGeom prst="cloudCallout">
            <a:avLst>
              <a:gd name="adj1" fmla="val 45333"/>
              <a:gd name="adj2" fmla="val 80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imp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292640"/>
            <a:ext cx="4105440" cy="1369800"/>
          </a:xfrm>
          <a:prstGeom prst="cloudCallout">
            <a:avLst>
              <a:gd name="adj1" fmla="val -33254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alir del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1413000"/>
            <a:ext cx="3673440" cy="1368360"/>
          </a:xfrm>
          <a:prstGeom prst="cloudCallout">
            <a:avLst>
              <a:gd name="adj1" fmla="val -57000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ente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365720"/>
            <a:ext cx="3673440" cy="1368360"/>
          </a:xfrm>
          <a:prstGeom prst="cloudCallout">
            <a:avLst>
              <a:gd name="adj1" fmla="val 34356"/>
              <a:gd name="adj2" fmla="val -84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xperimento-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2781360"/>
            <a:ext cx="5832360" cy="1368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1.- Reconocer Necesidad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2.- Definir el Problema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3.- Planificar y Administrar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4.- Obtener Información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5.- Generar Conceptos Alternativos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6.- Evaluar Alternativas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7.- Seleccionar Concepto más Prometedor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8.- Comunicar Diseño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9.- Implementar Diseñ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- Reconocer Nece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finir “Consumidores”-”Clientes” (no solo usu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dentificar que necesi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- Definir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claración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1557360"/>
            <a:ext cx="291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enera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No ideas preconceb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3848040"/>
            <a:ext cx="2916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r Prec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alidar con “clientes” (en lo po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- Planificar y Administ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Uso de cartas Gantt, gráficos 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2924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No perder el control de plazos ni recursos inve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2000" y="3789360"/>
            <a:ext cx="34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epend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ut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80360" y="2133720"/>
            <a:ext cx="287280" cy="360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60360"/>
              <a:gd name="textAreaBottom" fmla="*/ 34200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00" y="25688"/>
                </a:lnTo>
                <a:lnTo>
                  <a:pt x="20200" y="140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400" y="25688"/>
                </a:lnTo>
                <a:lnTo>
                  <a:pt x="20200" y="2568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88"/>
                </a:lnTo>
                <a:close/>
              </a:path>
              <a:path fill="darkenLess" w="21600" h="27088">
                <a:moveTo>
                  <a:pt x="5273" y="6729"/>
                </a:moveTo>
                <a:lnTo>
                  <a:pt x="12271" y="6729"/>
                </a:lnTo>
                <a:lnTo>
                  <a:pt x="16327" y="10228"/>
                </a:lnTo>
                <a:lnTo>
                  <a:pt x="16327" y="20359"/>
                </a:lnTo>
                <a:lnTo>
                  <a:pt x="5273" y="20359"/>
                </a:lnTo>
                <a:close/>
              </a:path>
              <a:path fill="darken" w="21600" h="27088">
                <a:moveTo>
                  <a:pt x="12271" y="6729"/>
                </a:moveTo>
                <a:lnTo>
                  <a:pt x="16327" y="10228"/>
                </a:lnTo>
                <a:lnTo>
                  <a:pt x="12271" y="102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85080" y="2133720"/>
            <a:ext cx="287280" cy="360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60360"/>
              <a:gd name="textAreaBottom" fmla="*/ 34200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00" y="25688"/>
                </a:lnTo>
                <a:lnTo>
                  <a:pt x="20200" y="140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400" y="25688"/>
                </a:lnTo>
                <a:lnTo>
                  <a:pt x="20200" y="2568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88"/>
                </a:lnTo>
                <a:close/>
              </a:path>
              <a:path fill="darkenLess" w="21600" h="27088">
                <a:moveTo>
                  <a:pt x="5273" y="6729"/>
                </a:moveTo>
                <a:lnTo>
                  <a:pt x="12271" y="6729"/>
                </a:lnTo>
                <a:lnTo>
                  <a:pt x="16327" y="10228"/>
                </a:lnTo>
                <a:lnTo>
                  <a:pt x="16327" y="20359"/>
                </a:lnTo>
                <a:lnTo>
                  <a:pt x="5273" y="20359"/>
                </a:lnTo>
                <a:close/>
              </a:path>
              <a:path fill="darken" w="21600" h="27088">
                <a:moveTo>
                  <a:pt x="12271" y="6729"/>
                </a:moveTo>
                <a:lnTo>
                  <a:pt x="16327" y="10228"/>
                </a:lnTo>
                <a:lnTo>
                  <a:pt x="12271" y="102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- Obtener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ás información = me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porta ide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Ojo con Normas legales, Pa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.- Generar Conceptos altern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BrainStorm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odificaciones, Analogías (inspi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ustituir, combinar, modificar, adaptar, nuevos usos, eliminar, reorde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78200" y="1413000"/>
            <a:ext cx="5257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omar nota de todas las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riticas despu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 buscan mejoras y combinaciones de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ás ideas me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imulas ideas nuevas y “loc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.- Evaluar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atisfacer 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finir parámetros de evaluación: constructivos, funcionales, de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éctor Agusto A.</cp:lastModifiedBy>
  <dcterms:modified xsi:type="dcterms:W3CDTF">2006-08-17T17:02:01Z</dcterms:modified>
  <cp:revision>11</cp:revision>
  <dc:subject/>
  <dc:title>EL63A-Taller de Proyecto en Control II</dc:title>
</cp:coreProperties>
</file>